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870-5FEA-4A13-BFF2-B0089DFD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580-8222-4136-A31C-C2124D5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584-94ED-43D8-9E74-A24B388D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F72-3FA7-4474-89DB-E861EC97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6A2-B728-423F-B12F-45B92766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F13-ADC8-49AA-9416-71A1E75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AF5-2C2B-4DAC-9FE9-008AFE7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507-ACE9-4C10-BCC0-D4FF315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516-1A71-40A6-B79C-2F4C5E4B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5E5-8FF4-4296-9589-98648E8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8B7-498B-483D-9075-A8F112B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A40-88AA-4175-9AC2-DB35280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621-8225-4FE1-9097-3804A5CA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SION 2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ntences begin with a subject followed by a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spra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nkle the first time I went ice-sk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cat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inicky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n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ometimes the best way to vary sentence beginnings is to reduce a short sentence to an introductory word, phrase, or clause and attach it to another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Example: The novel put me to sleep after an hour or reading. It is long and d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Long and dull, the novel put me to sleep after an hour of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entence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Almost everyone watches television. </a:t>
            </a: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But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how many people really know how a television set wor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ppos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A merchant sailor for ten years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Jim knew every important port in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ingle-word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Shivering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we warmed our chapped hands by the f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Phrase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From the window of the plane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Marisol saw her family waving goodb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vise your writing style, it isn’t always enough to vary your sentence beginnings. It’s also important to vary your sentence structures. That means using a mix of simple, compound, complex (and sometimes compound-complex)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void Word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. Use only the words you need to make you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2. Avoid complicated words where simple ones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3. Don’t repeat words unless it’s absolutely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ometimes you can fix a wordy sentence by taking out whole groups of unnecessary words. At other times you can revise by reducing clauses to phrases and both clauses and phrases to singl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219320"/>
            <a:ext cx="4114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Wor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t whi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 mean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Due to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spite of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the even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The fact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295280"/>
            <a:ext cx="42674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ecause,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c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0:33Z</dcterms:created>
  <dc:creator>User</dc:creator>
  <dc:description/>
  <dc:language>en-US</dc:language>
  <cp:lastModifiedBy>User</cp:lastModifiedBy>
  <dcterms:modified xsi:type="dcterms:W3CDTF">2006-10-10T17:25:23Z</dcterms:modified>
  <cp:revision>4</cp:revision>
  <dc:subject/>
  <dc:title>REVISION 2</dc:title>
</cp:coreProperties>
</file>